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346-F22B-4D52-96E4-0BA50506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D84-72A5-4729-831B-DBE9AD14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03A-BFAE-4107-995B-3BA10CBB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770-7B1A-4491-8EEA-6119644D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B55-6431-4262-A6E2-FFBCF026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9E4-E086-4FF0-957D-8D741D6A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0D0-52FA-40C2-9679-1DB57241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1D5-C0E9-47A7-9FCB-95E1E832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147-F512-4138-80A0-FE3870F8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73BA-4EEA-4767-B4E5-D471F7CF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86E-857B-4ED7-ACE9-77CB06FF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803-7A92-4EB1-9B1C-90658561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FC6D9-ADC9-4B96-BDEC-FD5FEC252D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0360" y="1800360"/>
            <a:ext cx="3990960" cy="49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amos Danç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84240" y="1768320"/>
            <a:ext cx="3467160" cy="4989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Dançar faz bem para o corpo e para a al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20760" y="1768320"/>
            <a:ext cx="2992320" cy="4989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dançar você não precisa ser um atl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sta apenas se fantasiar de aleg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3280" y="2239920"/>
            <a:ext cx="4425840" cy="4046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dança aproxima as pessoas e torna você uma pessoa  mais fel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65160" y="1768320"/>
            <a:ext cx="3503520" cy="4989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olte seu corpo e faça da dança um desafio para sua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a e d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M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51600" y="2836800"/>
            <a:ext cx="4425840" cy="28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41:39Z</dcterms:created>
  <dc:creator/>
  <dc:description/>
  <dc:language>en-US</dc:language>
  <cp:lastModifiedBy/>
  <dcterms:modified xsi:type="dcterms:W3CDTF">2010-11-25T23:14:18Z</dcterms:modified>
  <cp:revision>3</cp:revision>
  <dc:subject/>
  <dc:title/>
</cp:coreProperties>
</file>